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3413-C3F1-4FF7-BB6F-5408C1B83D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0A2-DFD7-42C7-BF79-E0E5E3DD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50E-395F-40CA-8A95-4FD0C85B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F94-035E-4D04-82C3-25B779B5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2A3-0FFA-4736-846E-8E8139F9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599-E5DD-4ABA-8841-20EC005C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03A-86DE-432B-ACEF-A259BE4C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544-ADDA-4191-8701-6D752313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272-D947-4794-A393-83F9A6A7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FC6-CB8E-4452-9794-8601D536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71D-AEF5-41B8-8516-B3216AA7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D5A-1DDC-40ED-A687-3AE75A5B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131-D25F-4F18-9476-3AE20E63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8ED4-4179-41B4-9A1F-DB2C79998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t produ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ing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y do plants need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keeps plants upright and stops them wil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also need water to make food and to carry nutrients throug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lants need lots of water and others need very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ater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plants can be watered from a watering can, from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watering can"/>
          <p:cNvPicPr/>
          <p:nvPr/>
        </p:nvPicPr>
        <p:blipFill>
          <a:blip r:embed="rId1"/>
          <a:stretch/>
        </p:blipFill>
        <p:spPr>
          <a:xfrm>
            <a:off x="2556000" y="3141720"/>
            <a:ext cx="3457440" cy="3206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need to be watered from below, by standing the pot in a water filled tray for a few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mage2"/>
          <p:cNvPicPr/>
          <p:nvPr/>
        </p:nvPicPr>
        <p:blipFill>
          <a:blip r:embed="rId1"/>
          <a:stretch/>
        </p:blipFill>
        <p:spPr>
          <a:xfrm>
            <a:off x="1476360" y="2286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apillary 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384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 material that absorbs water and stays mo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mats"/>
          <p:cNvPicPr/>
          <p:nvPr/>
        </p:nvPicPr>
        <p:blipFill>
          <a:blip r:embed="rId1"/>
          <a:stretch/>
        </p:blipFill>
        <p:spPr>
          <a:xfrm>
            <a:off x="4932360" y="2924280"/>
            <a:ext cx="3659040" cy="365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Tray"/>
          <p:cNvPicPr/>
          <p:nvPr/>
        </p:nvPicPr>
        <p:blipFill>
          <a:blip r:embed="rId2"/>
          <a:stretch/>
        </p:blipFill>
        <p:spPr>
          <a:xfrm>
            <a:off x="684360" y="2637000"/>
            <a:ext cx="3095640" cy="3876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"/>
          <p:cNvGrpSpPr/>
          <p:nvPr/>
        </p:nvGrpSpPr>
        <p:grpSpPr>
          <a:xfrm>
            <a:off x="684360" y="1268280"/>
            <a:ext cx="7849800" cy="4638600"/>
            <a:chOff x="684360" y="1268280"/>
            <a:chExt cx="7849800" cy="4638600"/>
          </a:xfrm>
        </p:grpSpPr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684360" y="1268280"/>
              <a:ext cx="784980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684360" y="4715640"/>
              <a:ext cx="784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upils made this automatic watering system. Water drips very slowly out of the tube onto capillary matting, lining the tray. The plants absorb the wa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ist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11280" y="1268280"/>
            <a:ext cx="770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sting systems produce water spraying droplets that are smaller than a human ha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llions of these tiny droplets hit the surrounding air, "flash evaporate", and quickly reduce temperatures 25 to 35 deg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" descr="03"/>
          <p:cNvPicPr/>
          <p:nvPr/>
        </p:nvPicPr>
        <p:blipFill>
          <a:blip r:embed="rId1"/>
          <a:stretch/>
        </p:blipFill>
        <p:spPr>
          <a:xfrm>
            <a:off x="539640" y="37069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01"/>
          <p:cNvPicPr/>
          <p:nvPr/>
        </p:nvPicPr>
        <p:blipFill>
          <a:blip r:embed="rId2"/>
          <a:stretch/>
        </p:blipFill>
        <p:spPr>
          <a:xfrm>
            <a:off x="4788000" y="3699000"/>
            <a:ext cx="3659040" cy="2744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Und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0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watered plants wilt, have dry, yellow leaves and dry comp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800600" y="44197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Phtophwilt%20copy"/>
          <p:cNvPicPr/>
          <p:nvPr/>
        </p:nvPicPr>
        <p:blipFill>
          <a:blip r:embed="rId1"/>
          <a:stretch/>
        </p:blipFill>
        <p:spPr>
          <a:xfrm>
            <a:off x="2556000" y="2997360"/>
            <a:ext cx="4076640" cy="3724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Ov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ompost or soil is waterlogged, roots are starved of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watered plants have soft, rotting or mouldy leaves and slimy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gin312_stem_rot_e"/>
          <p:cNvPicPr/>
          <p:nvPr/>
        </p:nvPicPr>
        <p:blipFill>
          <a:blip r:embed="rId1"/>
          <a:stretch/>
        </p:blipFill>
        <p:spPr>
          <a:xfrm>
            <a:off x="2484360" y="4070520"/>
            <a:ext cx="3527640" cy="2562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4T12:27:11Z</dcterms:created>
  <dc:creator>Andrew Johnston</dc:creator>
  <dc:description/>
  <dc:language>en-US</dc:language>
  <cp:lastModifiedBy>LEGION2</cp:lastModifiedBy>
  <dcterms:modified xsi:type="dcterms:W3CDTF">2016-01-13T09:38:02Z</dcterms:modified>
  <cp:revision>10</cp:revision>
  <dc:subject/>
  <dc:title>Plant production</dc:title>
</cp:coreProperties>
</file>